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DDAB-2C92-4B11-B48E-BD3BD603E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F101-3EDF-4A0B-9113-00C54342E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E416-C76D-4B70-8DE9-A55CD4652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20F0-6431-45BD-AC81-590507FD0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7DCA-BD3C-4FC0-B4E4-27B1D590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17BE-E72A-4909-AC62-7DD2ADFB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EB88-B963-4DDB-A4D8-D3BB0EAE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126-0F9E-4B4C-BDF4-99387C34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AFE6-83E5-4FC7-97B2-B93A71B0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F377-868F-4966-B0B9-70D06A9A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E3B-433A-468A-9287-DBEC0DB4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B1BE-9B02-474D-B335-40ECADC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BDCA-79D8-4F90-A8AA-125EFFFF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65B-9FA3-47A3-A130-A8FB02F5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D5149-793C-438E-8541-6AC123FC3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менциј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ордана Тонч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285920"/>
            <a:ext cx="8845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уролошки пре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окални неуролошк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невољни покр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сеудобулбар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дезинхибициони феноме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флекс пућ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жвак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ламоментални реф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флекс хва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нак оштећења кортикалних региона, углавном фронтал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10-15%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еменција реверзиби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тамин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умори моз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дроцефалу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овање лековима и токсичним материј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роничне инфекције мозга (сифили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прес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ЦТ и МРИ нису ни сензитивни ни специфични-добри за искључивање других проц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ласифика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Н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еуродегенерати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Alzeimer-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енција с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e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-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vim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онтотемпорална деменција и д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енције плус синдром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кинсонова 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гресивна супрануклеарна парализ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кобазиларна дегенер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Huntington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Васкулар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–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лтиинфарк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енција са субкортикалном исхемијском васкуларном болешћ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Инфектив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уролу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AIDS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екс дем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Jakob Creutzfeldtova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гресивна мултифокална леукоенцефалопат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cc00"/>
                </a:solidFill>
                <a:latin typeface="Arial"/>
              </a:rPr>
              <a:t>M</a:t>
            </a:r>
            <a:r>
              <a:rPr b="1" lang="sr-CS" sz="2000" spc="-1" strike="noStrike">
                <a:solidFill>
                  <a:srgbClr val="99cc00"/>
                </a:solidFill>
                <a:latin typeface="Arial"/>
              </a:rPr>
              <a:t>етаболичке и ендокрине демен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– B1, B12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лна кисел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штитна жлезда, поремећај метаболизма калцијума, инсуфицијенција јетре и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7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9140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чешћи тип демен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до 10% особа старијих од 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99cc00"/>
                </a:solidFill>
                <a:latin typeface="Comic Sans MS"/>
              </a:rPr>
              <a:t>K</a:t>
            </a:r>
            <a:r>
              <a:rPr b="0" lang="sr-CS" sz="2400" spc="-1" strike="noStrike">
                <a:solidFill>
                  <a:srgbClr val="99cc00"/>
                </a:solidFill>
                <a:latin typeface="Comic Sans MS"/>
              </a:rPr>
              <a:t>ритеријуми за 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епен поче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нтинуиран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д когнитивних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ун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мећај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у социјалном и професионалном функционис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оремећај памћења за скорије догађа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језичких фун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блеми са налажењем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оремећај пракс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блем визуелног процесуи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зуелна агно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конструктивн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егзекутивних функција (апстрактно мишљење и концентрациј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гнитивни дефекти нису последица других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сихијатриј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неуролош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ли системских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гнитивни поремећај се не јавља искључиво у склопу делириј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285920"/>
            <a:ext cx="8472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р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тски утиц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-20%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одичних случајева, око 5% се наслеђује моногенски, аутозомно доминантно са мутацијама на хромозомима 1,14 и 21 - ранији почет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олипопротеин Е учествује у транспорту холестерола у мозг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E2, E3, i E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сиоци апоЕ4 су у већем ризику (2-3 пута хетерозиготи, а 5 пута хомозиготи) да оболе од А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-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Женски п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њак образовањ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раума гл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скуларни фактори ризик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у средњем животном доб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дислипид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коронарн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дијабетес тип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инсулинска резистенција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 болест патологија и 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1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убитак неурона (фронтални, паријетални и темпорални режањ)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ритичан је губитак синапси на почетку боле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 болест патологија и патофиз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уропатолошки нал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нилни (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милоид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алко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– у ванћелијском простору мозга са структуром коју чини центарлно протеинско језгро састављено од фибриларног протеина -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ета амилоидног пептид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кружено дистрофичким нервним завршециј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урофибриларна клуба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унутар самих неурона, парни хеликални филамент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иперфосфорилисаног тау протеин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прво у структурама хипокампу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еменције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1904760"/>
            <a:ext cx="89917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ече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ерзистент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гресив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когнитивних функ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ступање од претрходног нивоа (богаташ који је осиеромаш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ји ремети социјални и професионални живот боле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 болест  патофиз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и у различитим неуротрансмитерским систем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цетилхо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репинеф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пам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рот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глутам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ептидни трансмитери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Клиничк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285920"/>
            <a:ext cx="86868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иње неприметно, шуњајуће, траје 8-10 год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гнитивни поремећај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ремећаји памћења за скорашње догађа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борављање договора, несећање и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ањена вербална комуникација и флуентност гово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оће у налажењу речи, афазија, мутиз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днопросторна орјентација-затурање предмета, несналажење у познатом прос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тикални поремећаји.апраксија (облачење, лична хигијена, оброци), афазија и агнозија (непрепознавање блиских особ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оћ другог л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сихијатријск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пресија са несаницом, анксиоз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мануте идеје (поткрадање и невер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идне халуц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ремећај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и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ремећаји дневно ноћног ритма спа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лутање ноћу, психомоторни немир, аги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завршаном стдијуму везани за кре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генерализовани ригор, мутизам, инконтин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се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неухрањ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поремећај рада срца, емболија плућ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гно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скључиво клиничка-нема специфичних симптома или знак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ма специфич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лабораторијск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неурофизиолош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радиолошких тестова или метода за дијагни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Alze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болест терап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имптомат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хибитори холинестераз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rivastigm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donepez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агонист НМДА рецептора-меман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депреси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психотиц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повремено и привремено након свих нефармаколошких процед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ксиолит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тиконвулзивна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еменција са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Lew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jevim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 тел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6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Lewyjeva tela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нклузије у неуронима коре и субкортек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ле 60.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гнитивни поремећаји + поремећаји поншања + паркинсонизам унутар обично годину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и памћења не морају да буду присут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Деменција са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Lew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jevim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тел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1392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пат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шкоће 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 разумевању сложених на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шавању пробл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смеравању паж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сторна дезорјен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ажно препознавање ос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ербални блок-губитак мисаоног т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Флуктуација тегоба –периоде луцидности смењују периоди конфуз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ане застрашујуће видне халуцина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Чести пад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рапија – инхибитори холинестер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типични антипсихот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6868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ронтотемпорална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10%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свих деменција са почетком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ре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трофија темпоралних и/или фронталних режњева, асиметр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лиоза, губитак неурона, балонирани неурони са цитоплазматским инклузијама (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бнормални тау протеин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еменције</a:t>
            </a: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гнитивни поремећа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ам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днопросторне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омене личности и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руге когнитивне способности (апстрактно мишљење, рачунање, просуђивање, планирањ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Фронтотемпорална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285560"/>
            <a:ext cx="91440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пора прогресивна дем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улим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и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пуште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мећаји говора (афазија или понављање-ехолал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моционална дезинхибиција, раздражљив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У раној фази израженији поремећаји понашања од поремећаја памћ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Васкулана дем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линички хетерогени синдр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неми инфаркти на ЦТ или М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ишеструки изненадни неуролошки дефицити и степенаста прогрес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стапоплектиформна деменциј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аскулана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скуларне деменци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улти-инфарктне (кортикалне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убкортикалне исхемичке васкуларне деменције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Binswa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атус лакунари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менција изазвана стратешки лоцираним  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ипоперфузиона дем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еменција због специфичних артериопат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шовита дем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Васкуларни благи когнитивни поремећај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рапија- као код АБ+антиагрегациона и фактори риз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Инфективне деменц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69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онске болести- спонгиоформне енцефалопат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reutzfeldt Jacob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пидно прогресивна дем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мећаји памћења, афазија, тешка деменциј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оклонус (трзајеви појединих делова тел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рамид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ични стрми таласи на ЕЕГ-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кстрапирамидни зна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ребеларни зна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а варијант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- не посто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Благи когнитивни поремећа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ремећај когниције који не ремети активност дневног живо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вод у демен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ки облици никада не конвертују у деменц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амнести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неамнестич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оносимптомат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лисимптоматс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Врсте памћењ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13920"/>
            <a:ext cx="9144000" cy="526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посредно упамћ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2.   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Краткорочно пам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Дугорочно памће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Непосредно упамћива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(радна мемор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личина информација које појединац може да задржи у свести без активног напора упамћивање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7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ројев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фокалне лезије горњих делова фронталне к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Краткорочно пам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државање и могућност присећања специфичних информ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кон периода од неколико минута до неколико сати (3 речи након 5 мину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едијални темпорални режањ (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хипокампус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omic Sans MS"/>
              </a:rPr>
              <a:t>Дугорочно памћ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т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уго познате инфо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окортекс, дифузне лезије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окортикалних струк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амнеза и хетероанам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Брзина и редослед појаве когнитивних дефицита и поремећаја понаш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штећење социјалних функција (АДЖ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пште здрављ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Релевантне болест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Б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вреде главе, лекови, породична анамнез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Дијагностички поступак у синдрому дем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МСЕ - орјентација у времену и простор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амћење, серијско одузим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говор (разумевање и извршавање вербалних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исаних захтева, понављање реченице, писање)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- прецртав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30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ање од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умња на демен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ест цртања с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ni Co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9:23:38Z</dcterms:created>
  <dc:creator>Goca Toncev</dc:creator>
  <dc:description/>
  <dc:language>en-US</dc:language>
  <cp:lastModifiedBy>Gordana Toncev</cp:lastModifiedBy>
  <dcterms:modified xsi:type="dcterms:W3CDTF">2020-09-26T09:11:03Z</dcterms:modified>
  <cp:revision>49</cp:revision>
  <dc:subject/>
  <dc:title>Деменције</dc:title>
</cp:coreProperties>
</file>